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2ED-C3E2-4B01-8AA6-D078EFD2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9F7-2738-469F-AC62-C7349415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53F-4065-4AA2-AEF8-E4B51885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F43-FF99-4F08-80DB-3F5B9618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3C80-099A-4A08-AEBF-363DDC03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A5FF-59BE-4679-AA3E-E7AC7F65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D3A3-BBE7-4A69-802F-4BCDB400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A67B-785A-4C43-88E1-E55C779D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7608-7303-43C5-9467-09D06051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EE91-EBE5-425C-8C34-38D3AD89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8D74-4EE1-42CC-BEB8-E6A2980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9A0-04F7-4BB0-B656-B0D30924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9C17-BBC0-4AB7-A169-9B856291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E94C-4B95-45F5-B4DB-9B0F904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58D1-94A5-44A6-B196-A424AAC3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CB0D-F478-4C15-A905-E5A43D41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F319-4A75-4889-A35C-E34A105E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A3C-FD4A-47B0-B0B5-EAF00F2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560-C443-495B-8163-28E7953B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BAEA-4786-416F-9A04-05F5E3AD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B51-016E-4DE4-9101-3B14E1AE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9ED-7270-44C8-A0B2-5EC16879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5C5-31B2-4884-A315-04CCE7DE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C8F-F563-4F81-B536-1873E95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3728-1672-4AF5-9588-05B9412FB3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B39E-5B80-4471-B267-FF009F3687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icen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istemologi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que é epistemologia?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nco problemas (Analítico, Demarcação, Método, Cepticismo e Valor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6:49:26Z</dcterms:created>
  <dc:creator>Cliente</dc:creator>
  <dc:description/>
  <dc:language>en-US</dc:language>
  <cp:lastModifiedBy>Cliente</cp:lastModifiedBy>
  <dcterms:modified xsi:type="dcterms:W3CDTF">2006-05-23T16:51:49Z</dcterms:modified>
  <cp:revision>1</cp:revision>
  <dc:subject/>
  <dc:title>Vicente</dc:title>
</cp:coreProperties>
</file>